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E61A-28F1-410E-B5F6-30ED9FA6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FCC-6BC6-4079-8C4F-6114D92B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BBF2-57A1-452A-ADA5-B81E3A91B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838-E4DF-46C2-AECD-51E84B52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DA45-8AC1-4A8B-9BC1-A3449A79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EC17-2E2A-4C36-8A54-E71FE2B4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D943-7826-4150-B9B4-C3968141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4F57-269E-42E3-AE5D-A7357FD6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0C7-DD50-41DE-8042-A5A3DF0C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18AF-9527-472F-B519-05DD2C40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6150-957C-408E-9829-6E0CF837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4640-6529-4AA1-AD78-44FCFF6C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01C-6249-42CC-BD1B-7FE9AEA4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99CD-1C44-4E10-A5C3-38670BE35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986B-3355-46C3-A9D7-4029426F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B3BE-C237-451F-A3F6-53491EAB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C8F-A528-4613-AF93-CB98C852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6E2-1108-4B3B-9722-8C6D9388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375-B5DA-47D9-B061-3C22AC1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5C7-510D-456F-993A-A1AC99A7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6C62-E3BD-4C49-8AEB-0CB0FCDF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F079-407C-49FB-9C8E-C88BAD4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3467-28E6-4288-95F9-064CCDEB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D7F0-C296-4804-AC76-BAE8DA7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BC6-E8B6-4C64-B7A0-73E1C4BE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E442-8B9A-4A5E-ADE3-969C72DA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337F-B563-4F42-919B-22D7DEFE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0B7-E5C3-4684-958F-D20CFB42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667-D041-486F-A770-1B3940F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9EE9-46A9-4164-B0D3-2BD77B66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C6F9-0765-4E37-9400-4AF90F7A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8C9E-4D5A-4801-BD05-0FEF41AD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93A-9E1C-4CEF-A4BF-6A4A08AF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D5C-1530-4430-8E7B-E7609EFB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78A-8DD2-4AD2-9301-E204EC4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BF2-1F98-4A7D-948B-E5F29281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A3A-3315-465F-A48E-20E74D8F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923-30B1-4D9A-92D1-D79E554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85F-2AC3-4E2F-873D-ECC683F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ABB-AB0B-465F-BADF-7565833F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356-4C7B-421D-888E-545BFBF53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63A-B3D9-42AD-9B20-E905EAFEC73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chelle Kwan: Heart of a Champio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in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ildren are learning how to meditate, to calm their minds.  Once they lear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will be able to meditate for h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Beginners-Mind-Meditaion-Technique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lympian archer mastered m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ing how to hold the bow, release the string, and aim at the targ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Technique"/>
          <p:cNvPicPr/>
          <p:nvPr/>
        </p:nvPicPr>
        <p:blipFill>
          <a:blip r:embed="rId1"/>
          <a:stretch/>
        </p:blipFill>
        <p:spPr>
          <a:xfrm>
            <a:off x="5145120" y="2727360"/>
            <a:ext cx="3809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atik artist uses many special techniques as she creates.  How might an artist acquire these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tist might gain techniques by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batik-technique"/>
          <p:cNvPicPr/>
          <p:nvPr/>
        </p:nvPicPr>
        <p:blipFill>
          <a:blip r:embed="rId1"/>
          <a:stretch/>
        </p:blipFill>
        <p:spPr>
          <a:xfrm>
            <a:off x="5145120" y="2394000"/>
            <a:ext cx="38098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cal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dj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scribe the practical skills and methods used to do an activity such as an art, a craft, or a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le Kwan worked very hard to maste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ce skating. Her jumps and landings require gre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.  Ice skating judges have found Michelle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ichelle-kwan_07"/>
          <p:cNvPicPr/>
          <p:nvPr/>
        </p:nvPicPr>
        <p:blipFill>
          <a:blip r:embed="rId1"/>
          <a:stretch/>
        </p:blipFill>
        <p:spPr>
          <a:xfrm>
            <a:off x="5678640" y="20178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 - Re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om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re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f you need something, you  ______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If you are slow to lose your temper, you are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o do a difficult athletic skill, you need to learn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When you play a game and try to win, you 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contest or a game, you take part in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 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bike rid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fastest ri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65014060-cyclists-compete"/>
          <p:cNvPicPr/>
          <p:nvPr/>
        </p:nvPicPr>
        <p:blipFill>
          <a:blip r:embed="rId1"/>
          <a:stretch/>
        </p:blipFill>
        <p:spPr>
          <a:xfrm>
            <a:off x="5145120" y="257652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 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osball play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best tea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US Team Players Billy Pappas (l) and Tom Yore (r) compete at World Cup of Table Soccer"/>
          <p:cNvPicPr/>
          <p:nvPr/>
        </p:nvPicPr>
        <p:blipFill>
          <a:blip r:embed="rId1"/>
          <a:stretch/>
        </p:blipFill>
        <p:spPr>
          <a:xfrm>
            <a:off x="5145120" y="2643120"/>
            <a:ext cx="38098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61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sports and games that you cou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.  Think of one that you would enjo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your partner what you would like to compete 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uld like to compete in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Women Ski Jumpers Cant Compete In 2010"/>
          <p:cNvPicPr/>
          <p:nvPr/>
        </p:nvPicPr>
        <p:blipFill>
          <a:blip r:embed="rId1"/>
          <a:stretch/>
        </p:blipFill>
        <p:spPr>
          <a:xfrm>
            <a:off x="5145120" y="2782800"/>
            <a:ext cx="3809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 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mpeti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ompetit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loves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aces.  In the past, 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, running the 26 miles.  After being injured in a skiing accident, he wanted to contin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 so he joined the wheelcha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m has proven to be a gre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nning a number of races. He is ve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compete"/>
          <p:cNvPicPr/>
          <p:nvPr/>
        </p:nvPicPr>
        <p:blipFill>
          <a:blip r:embed="rId1"/>
          <a:stretch/>
        </p:blipFill>
        <p:spPr>
          <a:xfrm>
            <a:off x="5145120" y="264168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kill and ability in an artistic, sporting, or other practical activity that is developed through training and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Breaking_technique"/>
          <p:cNvPicPr/>
          <p:nvPr/>
        </p:nvPicPr>
        <p:blipFill>
          <a:blip r:embed="rId1"/>
          <a:stretch/>
        </p:blipFill>
        <p:spPr>
          <a:xfrm>
            <a:off x="5145120" y="2714760"/>
            <a:ext cx="38098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3:05:11Z</dcterms:created>
  <dc:creator>Archer Anita</dc:creator>
  <dc:description/>
  <dc:language>en-US</dc:language>
  <cp:lastModifiedBy>Becky Brandl</cp:lastModifiedBy>
  <dcterms:modified xsi:type="dcterms:W3CDTF">2011-08-15T05:26:48Z</dcterms:modified>
  <cp:revision>4</cp:revision>
  <dc:subject/>
  <dc:title>Michelle Kwan: Heart of a Champion </dc:title>
</cp:coreProperties>
</file>